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5FF4A-3422-444D-BB61-E05209539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A2597-305C-4E8B-BD8D-6D165506A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107AA-8791-48B8-B391-C453D0274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ED6DC-502A-49B1-AC20-B62673FAF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09028-0885-4665-90A8-47AF951B3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A1235-DA62-4BA7-A012-A6D1A4419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CFDE7-0799-4272-A967-A99D7CE15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D66CF-7CA2-4CBE-8FF8-FA3D0448C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F5BDF-FAEB-495A-AAC5-83B365C90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6C62C-7ABB-4FC0-9C62-8ED6354B4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A6515-3EEB-4ABC-B338-6E1B6738B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BAFA2-D8E8-46AF-AE41-515448C67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D1C51-1EC4-4A50-B9D9-E54919EE5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BFC56-6949-4C60-874C-ECD7C7D71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270BB-18E9-4837-9590-3F299DB42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A7EC0-9271-4AC3-9CB8-3C62137E9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ADF88-37AD-4B62-A608-8808169B1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9B262-F579-4505-A5E5-0AF1A0829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1E6D8-1FF0-4300-A2C7-7B544C98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92F59-842D-4803-BFD7-8254D7693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A6CD2-6098-4474-AA41-BD57F9E5E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02544-8292-4149-AE86-AD4B12ED7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7A9C-D238-49A7-931C-9EA4B7B40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F9117-D03A-444A-8DAC-72D7E3558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6D24-2588-41AD-82A0-E8E034A4DD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8DD6-0E85-4E82-A15A-C03EA188A2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7e7ff"/>
                </a:solidFill>
                <a:latin typeface="Arial"/>
              </a:rPr>
              <a:t>CULTURA ROMANĂ</a:t>
            </a:r>
            <a:endParaRPr b="0" lang="en-US" sz="1400" spc="-1" strike="noStrike">
              <a:solidFill>
                <a:srgbClr val="b7e7ff"/>
              </a:solidFill>
              <a:latin typeface="Arial"/>
            </a:endParaRPr>
          </a:p>
        </p:txBody>
      </p:sp>
      <p:sp>
        <p:nvSpPr>
          <p:cNvPr id="8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3" name="PlaceHolder 2"/>
          <p:cNvSpPr>
            <a:spLocks noGrp="1"/>
          </p:cNvSpPr>
          <p:nvPr>
            <p:ph type="subTitle"/>
          </p:nvPr>
        </p:nvSpPr>
        <p:spPr>
          <a:xfrm>
            <a:off x="1251000" y="3909960"/>
            <a:ext cx="7432560" cy="17128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83">
                                            <p:txEl>
                                              <p:pRg st="0" end="0"/>
                                            </p:txEl>
                                          </p:spTgt>
                                        </p:tgtEl>
                                        <p:attrNameLst>
                                          <p:attrName>style.visibility</p:attrName>
                                        </p:attrNameLst>
                                      </p:cBhvr>
                                      <p:to>
                                        <p:strVal val="visible"/>
                                      </p:to>
                                    </p:set>
                                    <p:animEffect filter="fade" transition="in">
                                      <p:cBhvr additive="repl">
                                        <p:cTn id="11" dur="10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301680" y="1676520"/>
            <a:ext cx="4191120" cy="35733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86" name="Picture 5" descr=""/>
          <p:cNvPicPr/>
          <p:nvPr/>
        </p:nvPicPr>
        <p:blipFill>
          <a:blip r:embed="rId2"/>
          <a:stretch/>
        </p:blipFill>
        <p:spPr>
          <a:xfrm>
            <a:off x="4724280" y="1371600"/>
            <a:ext cx="144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2a3</cp:lastModifiedBy>
  <dcterms:modified xsi:type="dcterms:W3CDTF">2012-06-19T10:54:4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